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EC6-63DC-47D6-AA33-815E3E2A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81C-3735-4FBD-B975-C99348F9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8BE-2412-4DB5-971A-C7F18263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39C-F3F0-49B2-9F3E-AB990A00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312-6DF7-4551-8A5A-54A6065E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34B-CABB-41B6-BB7A-A5B1BFBB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9E2-2B0D-45F5-8C85-E1D3B431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390-B610-4B24-A4DD-040BADF1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1A9-8406-4511-8F38-F20EFE18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7A1-8A68-435E-8BCD-DE4A0606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4AF-C7C0-4002-8F34-CFC34717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FC6-5076-42C3-93EE-799AE335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903B-C243-40A4-BB71-58582D7797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116000" y="2462040"/>
            <a:ext cx="31035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41280" y="192564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79380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9" descr=""/>
          <p:cNvPicPr/>
          <p:nvPr/>
        </p:nvPicPr>
        <p:blipFill>
          <a:blip r:embed="rId3"/>
          <a:stretch/>
        </p:blipFill>
        <p:spPr>
          <a:xfrm>
            <a:off x="1395360" y="2560680"/>
            <a:ext cx="31100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4"/>
          <a:stretch/>
        </p:blipFill>
        <p:spPr>
          <a:xfrm>
            <a:off x="1566720" y="4724280"/>
            <a:ext cx="8064720" cy="12798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901800" y="3797280"/>
            <a:ext cx="8229600" cy="105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6"/>
          <a:stretch/>
        </p:blipFill>
        <p:spPr>
          <a:xfrm>
            <a:off x="5508720" y="2565360"/>
            <a:ext cx="3276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1"/>
          <a:stretch/>
        </p:blipFill>
        <p:spPr>
          <a:xfrm>
            <a:off x="1182600" y="4668840"/>
            <a:ext cx="8058240" cy="4698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2"/>
          <a:stretch/>
        </p:blipFill>
        <p:spPr>
          <a:xfrm>
            <a:off x="347760" y="1852560"/>
            <a:ext cx="819288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3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11" descr=""/>
          <p:cNvPicPr/>
          <p:nvPr/>
        </p:nvPicPr>
        <p:blipFill>
          <a:blip r:embed="rId4"/>
          <a:stretch/>
        </p:blipFill>
        <p:spPr>
          <a:xfrm>
            <a:off x="5413320" y="3187800"/>
            <a:ext cx="3108240" cy="8776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13" descr=""/>
          <p:cNvPicPr/>
          <p:nvPr/>
        </p:nvPicPr>
        <p:blipFill>
          <a:blip r:embed="rId5"/>
          <a:stretch/>
        </p:blipFill>
        <p:spPr>
          <a:xfrm>
            <a:off x="6059520" y="4462560"/>
            <a:ext cx="2462040" cy="877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6"/>
          <a:stretch/>
        </p:blipFill>
        <p:spPr>
          <a:xfrm>
            <a:off x="1060560" y="6004080"/>
            <a:ext cx="805968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7"/>
          <a:stretch/>
        </p:blipFill>
        <p:spPr>
          <a:xfrm>
            <a:off x="907920" y="5589720"/>
            <a:ext cx="8060040" cy="4633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8"/>
          <a:stretch/>
        </p:blipFill>
        <p:spPr>
          <a:xfrm>
            <a:off x="1176480" y="5108400"/>
            <a:ext cx="805320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9"/>
          <a:stretch/>
        </p:blipFill>
        <p:spPr>
          <a:xfrm>
            <a:off x="1163520" y="3852720"/>
            <a:ext cx="8059680" cy="9208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0"/>
          <a:stretch/>
        </p:blipFill>
        <p:spPr>
          <a:xfrm>
            <a:off x="890640" y="3067200"/>
            <a:ext cx="8058240" cy="9190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1"/>
          <a:stretch/>
        </p:blipFill>
        <p:spPr>
          <a:xfrm>
            <a:off x="901800" y="2548080"/>
            <a:ext cx="80532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1:42Z</dcterms:created>
  <dc:creator/>
  <dc:description/>
  <dc:language>en-US</dc:language>
  <cp:lastModifiedBy/>
  <dcterms:modified xsi:type="dcterms:W3CDTF">2011-12-08T11:41:47Z</dcterms:modified>
  <cp:revision>1</cp:revision>
  <dc:subject/>
  <dc:title/>
</cp:coreProperties>
</file>